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663-1184-4189-ADF7-6698E1DE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306-E215-4FA4-AA5C-0380B1A0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405-9522-409C-A8B2-910F5D22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65A-3BA4-4A6C-84D4-B7561B22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7AF-3A32-4DF2-B01F-03E67D8E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445-E245-4CB6-AB05-4C68E935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C63-6D3F-45D7-B88C-69F34B60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42E-FF45-459A-9ED8-36A77EA6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4A4-8365-4323-B2C7-5C37A011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06E-8A99-44CF-9345-2B12580D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0A75-84C6-433A-AFE0-59C2550D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689-F477-4F42-AE19-A5F1866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C9D7-A970-44E3-AB0A-B41041051211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5501 (CI52A)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65% del IVA en proyectos habitacionales. Ley modificada en 2008: ahora es por tram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xplota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recupera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invers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5690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11-11-17T11:40:57Z</dcterms:modified>
  <cp:revision>47</cp:revision>
  <dc:subject/>
  <dc:title>CI 52A Métodos Constructivos</dc:title>
</cp:coreProperties>
</file>